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BA00-DC5E-43F5-BAF6-3A90AC2CE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89A-C9CC-488D-878E-704D0E80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38E-DD46-42FE-B089-67774B8D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123-FC48-44CD-AF59-0936B501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356-6BEF-4544-BDDB-18F7DADF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781-ED9E-4AD3-9E7E-74EEBA99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34CC-54BE-4F1D-A838-8670D998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F2CB-CCD8-4EF3-9C38-0C640B29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9D3C-6ED3-4837-BA52-921F4487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50D7-F169-4549-B0EE-7911C247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191D-510E-43EF-B023-E88112AF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FBB-C9AF-4BD5-9BC4-DC66375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16A-E9F8-4CD1-9737-71B0F028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FBDC-5A55-401C-A4CD-593B2C7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B1DA-CEAD-4BD0-A714-2585A1C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A8EA-C1FA-4015-8064-70D6993C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CB6-A5DB-4335-8044-48E4474C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F944-0BED-4408-854B-E4925B95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ADC-8F05-41DE-9225-66ED494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FDB-B1F6-4D4F-9BA5-83E8840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97F-58A9-4134-80B2-2EBDD98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961-6195-4C1F-A5F8-13CF755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2AA-A50D-4E92-89F2-17022BD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F54-8492-47A0-AA68-E7D3DC8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940-BF16-433E-B5AE-A3B51C2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13AA-253F-4564-8A03-DDB79CE2CF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E580-D455-4F99-B570-E446E9A29F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Multi-Mode Selectable DC-DC Converter for Ultralow Power Circuit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rnie Bowd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ug Sorens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4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32136" b="19629"/>
          <a:stretch/>
        </p:blipFill>
        <p:spPr>
          <a:xfrm>
            <a:off x="2133720" y="2438280"/>
            <a:ext cx="4800600" cy="3587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5760000"/>
            <a:ext cx="8077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 Unicode MS"/>
              </a:rPr>
              <a:t>Quantization effect.  Dashed line represents four voltage sources with dithering.  Lowest energy line is a voltage supply with infinite output values [1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V. Gutnik and A. Chandrakasan, “Embedded Power Supply for Low-Power DSP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”, IEEE Transactions on Very Large Scale Integration (VLSI) Systems,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December 1997, Vol. 5, No. 4, pp 425-436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68600" y="2568600"/>
          <a:ext cx="42321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8600" y="2568600"/>
                    <a:ext cx="4232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19520" y="2438280"/>
          <a:ext cx="29430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38280"/>
                    <a:ext cx="29430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ear Regula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505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on 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174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tage Cur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5023" t="15155" r="7294" b="6753"/>
          <a:stretch/>
        </p:blipFill>
        <p:spPr>
          <a:xfrm>
            <a:off x="1752480" y="2666880"/>
            <a:ext cx="533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ffects of Load Current on Output Voltag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5554" t="15817" r="8152" b="6048"/>
          <a:stretch/>
        </p:blipFill>
        <p:spPr>
          <a:xfrm>
            <a:off x="2133720" y="2438280"/>
            <a:ext cx="49528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witched Capacitor Efficiencies in 65nm PT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7455" t="18529" r="8679" b="6248"/>
          <a:stretch/>
        </p:blipFill>
        <p:spPr>
          <a:xfrm>
            <a:off x="4876920" y="4191120"/>
            <a:ext cx="4114800" cy="23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5101" t="18601" r="7601" b="6735"/>
          <a:stretch/>
        </p:blipFill>
        <p:spPr>
          <a:xfrm>
            <a:off x="914400" y="2514600"/>
            <a:ext cx="3962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56:33Z</dcterms:created>
  <dc:creator>Ernest Bowden</dc:creator>
  <dc:description/>
  <dc:language>en-US</dc:language>
  <cp:lastModifiedBy>Ernest Bowden</cp:lastModifiedBy>
  <dcterms:modified xsi:type="dcterms:W3CDTF">2007-12-04T18:31:53Z</dcterms:modified>
  <cp:revision>8</cp:revision>
  <dc:subject/>
  <dc:title>A Multi-Mode Selectable DC-DC Converter for Ultralow Power Circuits </dc:title>
</cp:coreProperties>
</file>